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81F4-9D30-4CC7-85C9-202615AF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46B-7CE7-42E6-92AD-A28F88A5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B47-7F63-4D63-B665-2C59D965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8CC-D8A6-4021-A8E7-8F02B004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C0E6-F7F9-42A1-AB30-2596530D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9F37-D134-4164-90C1-3AD3E299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066E-0F2B-4C59-99A8-72A009E8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3F4A-8501-4F73-9AEF-8E699877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A1E4-BC84-48A5-BB0C-1EC8CB56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E9BC-52EE-4C55-8903-27D28491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7226-AAFA-4400-8C86-738924B7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FBDE-663B-4104-9415-11490FDC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F8A4-886F-4CAC-86E5-C6B36298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50D0-D3B4-471F-B4D4-1CD7F3AB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BD6C-E262-4A45-9E77-DBE0E147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016D-8EC1-44EE-9EE2-24102BF1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BDEB-FBBB-4BC6-94A9-1AC84593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0E7A-DDF3-46FA-B372-DCEDFFDD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904A-0A23-40CD-8869-85A34305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47B-E1E7-4F5E-8C48-5311DCDA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86A-2813-4A33-9A27-732A9623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089-942D-4BEE-ABD1-6827FF96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E8C-A07B-4175-87A8-C8C238F4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83F-E6F8-4DAA-BE8C-F1524FC0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98B2-3A48-4C30-B585-E8A1E49C0A5B}" type="slidenum">
              <a:rPr b="0" lang="es-PE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C12B-04E6-4474-A3DD-F504B3038A71}" type="slidenum">
              <a:rPr b="0" lang="es-PE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MX" sz="2800" spc="-1" strike="noStrike">
                <a:solidFill>
                  <a:srgbClr val="f7d47d"/>
                </a:solidFill>
                <a:latin typeface="Arial Narrow"/>
              </a:rPr>
              <a:t>GENERALIDADES SOBRE EL DESARROLLO</a:t>
            </a:r>
            <a:br>
              <a:rPr sz="2800"/>
            </a:br>
            <a:r>
              <a:rPr b="1" lang="es-MX" sz="2800" spc="-1" strike="noStrike">
                <a:solidFill>
                  <a:srgbClr val="f7d47d"/>
                </a:solidFill>
                <a:latin typeface="Arial Narrow"/>
              </a:rPr>
              <a:t>PSICOSOCIAL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6049800" cy="37558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581280" y="5486400"/>
            <a:ext cx="3581640" cy="9144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 Narrow"/>
              </a:rPr>
              <a:t>María Elena Iglesias López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 Narrow"/>
              </a:rPr>
              <a:t>CESIP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 Narrow"/>
              </a:rPr>
              <a:t>Setiembre, 200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7d47d"/>
                </a:solidFill>
                <a:latin typeface="Arial Narrow"/>
              </a:rPr>
              <a:t>IDENTIDAD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835280" y="907920"/>
            <a:ext cx="4213080" cy="3237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4221000"/>
            <a:ext cx="7740720" cy="1944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f1311"/>
                </a:solidFill>
                <a:latin typeface="Arial Narrow"/>
              </a:rPr>
              <a:t>Crisis de identidad, de autoridad y de manejo de la sexualidad</a:t>
            </a: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f1311"/>
                </a:solidFill>
                <a:latin typeface="Arial Narrow"/>
              </a:rPr>
              <a:t>Medio familiar-social debe adecuase las necesidade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f1311"/>
                </a:solidFill>
                <a:latin typeface="Arial Narrow"/>
              </a:rPr>
              <a:t>y características del períod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El grupo es fundamental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PE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199280" cy="474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30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38163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El desarrollo de los ser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humanos es un proces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permanente de progresiv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integración y diferenciac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de la persona como se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social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Es el resultado del interjueg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de una serie de elementos, e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donde el individuo influye e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su entorno y es influido a su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vez por éste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3216240" cy="39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f1311"/>
                </a:solidFill>
                <a:latin typeface="Arial Narrow"/>
              </a:rPr>
              <a:t>La posibilidad de actualizar todas la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f1311"/>
                </a:solidFill>
                <a:latin typeface="Arial Narrow"/>
              </a:rPr>
              <a:t>capacidades de las personas depende n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f1311"/>
                </a:solidFill>
                <a:latin typeface="Arial Narrow"/>
              </a:rPr>
              <a:t>sólo de la salud de su organismo, sino qu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f1311"/>
                </a:solidFill>
                <a:latin typeface="Arial Narrow"/>
              </a:rPr>
              <a:t>es indispensable que las condiciones en la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f1311"/>
                </a:solidFill>
                <a:latin typeface="Arial Narrow"/>
              </a:rPr>
              <a:t>que vive y se desarrolla, faciliten l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f1311"/>
                </a:solidFill>
                <a:latin typeface="Arial Narrow"/>
              </a:rPr>
              <a:t>expresión y promuevan la activación d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f1311"/>
                </a:solidFill>
                <a:latin typeface="Arial Narrow"/>
              </a:rPr>
              <a:t>dichas capacidades.</a:t>
            </a:r>
            <a:r>
              <a:rPr b="0" lang="es-ES" sz="32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-576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6524280"/>
            <a:ext cx="738648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27280" y="765000"/>
            <a:ext cx="4824360" cy="935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"/>
              </a:rPr>
              <a:t>DESARROLLO HUMANO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"/>
              </a:rPr>
              <a:t>proceso permanen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620640"/>
            <a:ext cx="504720" cy="5400720"/>
          </a:xfrm>
          <a:prstGeom prst="downArrow">
            <a:avLst>
              <a:gd name="adj1" fmla="val 50000"/>
              <a:gd name="adj2" fmla="val 267511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M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O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M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N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T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O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V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O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L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U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T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I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V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O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11280" y="2565360"/>
            <a:ext cx="2592360" cy="1297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 Narrow"/>
              </a:rPr>
              <a:t>INTEGRACIÓ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 Narrow"/>
              </a:rPr>
              <a:t>Con el medio social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 Narrow"/>
              </a:rPr>
              <a:t>y materia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2565360"/>
            <a:ext cx="2448000" cy="1297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1311"/>
                </a:solidFill>
                <a:latin typeface="Arial Narrow"/>
              </a:rPr>
              <a:t>DIFERENCIACIÓ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1311"/>
                </a:solidFill>
                <a:latin typeface="Arial Narrow"/>
              </a:rPr>
              <a:t>Particularidades como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1311"/>
                </a:solidFill>
                <a:latin typeface="Arial Narrow"/>
              </a:rPr>
              <a:t>individuo actuando e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1311"/>
                </a:solidFill>
                <a:latin typeface="Arial Narrow"/>
              </a:rPr>
              <a:t>ese medi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692280"/>
            <a:ext cx="1152360" cy="107928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Posibilidades y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Retos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específicos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2276640"/>
            <a:ext cx="1295280" cy="136836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f1311"/>
                </a:solidFill>
                <a:latin typeface="Arial"/>
              </a:rPr>
              <a:t>Persona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f1311"/>
                </a:solidFill>
                <a:latin typeface="Arial"/>
              </a:rPr>
              <a:t>completa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f1311"/>
                </a:solidFill>
                <a:latin typeface="Arial"/>
              </a:rPr>
              <a:t>con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f1311"/>
                </a:solidFill>
                <a:latin typeface="Arial"/>
              </a:rPr>
              <a:t>características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f1311"/>
                </a:solidFill>
                <a:latin typeface="Arial"/>
              </a:rPr>
              <a:t>definidas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4149720"/>
            <a:ext cx="1225440" cy="194328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Presencia de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elementos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previos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organizados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en estructuras d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mayor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complejidad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5157720"/>
            <a:ext cx="5040360" cy="792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 Narrow"/>
              </a:rPr>
              <a:t>PROGRESIVA INTEGRACIÓN DE LO PREVI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s-ES" sz="1800" spc="-1" strike="noStrike">
                <a:solidFill>
                  <a:srgbClr val="2f1311"/>
                </a:solidFill>
                <a:latin typeface="Arial Narrow"/>
              </a:rPr>
              <a:t>Y EXPANSIÓN HACIA ELEMENTOS NUEVOS </a:t>
            </a:r>
            <a:r>
              <a:rPr b="0" lang="es-ES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758200">
            <a:off x="250920" y="1557360"/>
            <a:ext cx="395280" cy="863640"/>
          </a:xfrm>
          <a:custGeom>
            <a:avLst/>
            <a:gdLst>
              <a:gd name="textAreaLeft" fmla="*/ 52920 w 395280"/>
              <a:gd name="textAreaRight" fmla="*/ 342360 w 39528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7093800">
            <a:off x="1223640" y="3681000"/>
            <a:ext cx="576360" cy="792000"/>
          </a:xfrm>
          <a:custGeom>
            <a:avLst/>
            <a:gdLst>
              <a:gd name="textAreaLeft" fmla="*/ 100800 w 576360"/>
              <a:gd name="textAreaRight" fmla="*/ 417960 w 57636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1916280"/>
            <a:ext cx="502920" cy="431640"/>
          </a:xfrm>
          <a:custGeom>
            <a:avLst/>
            <a:gdLst>
              <a:gd name="textAreaLeft" fmla="*/ 67320 w 502920"/>
              <a:gd name="textAreaRight" fmla="*/ 435600 w 50292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40360" y="1916280"/>
            <a:ext cx="432000" cy="431640"/>
          </a:xfrm>
          <a:custGeom>
            <a:avLst/>
            <a:gdLst>
              <a:gd name="textAreaLeft" fmla="*/ 57600 w 432000"/>
              <a:gd name="textAreaRight" fmla="*/ 374400 w 43200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32360" y="422100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7d47d"/>
                </a:solidFill>
                <a:latin typeface="Arial Narrow"/>
              </a:rPr>
              <a:t>LAS ETAPAS DEL DESARROLLO PSICOSOCIAL </a:t>
            </a:r>
            <a:br>
              <a:rPr sz="2800"/>
            </a:br>
            <a:r>
              <a:rPr b="1" lang="es-PE" sz="2800" spc="-1" strike="noStrike">
                <a:solidFill>
                  <a:srgbClr val="f7d47d"/>
                </a:solidFill>
                <a:latin typeface="Arial Narrow"/>
              </a:rPr>
              <a:t>OCHO EDADES DEL HOMBRE – E. ERICKSON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24000" y="1595520"/>
          <a:ext cx="7416720" cy="41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95520"/>
                    <a:ext cx="741672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p:transition>
    <p:push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7d47d"/>
                </a:solidFill>
                <a:latin typeface="Arial Narrow"/>
              </a:rPr>
              <a:t>CONFIANZA BÁSICA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1197000"/>
            <a:ext cx="3384360" cy="5111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Cuidador(a) que transmita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al niño o niña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estabilidad, tranquilidad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confianza y protec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Equilibrio entre la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satisfacc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y la frustrac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Reconocimiento por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parte de los demás</a:t>
            </a:r>
            <a:r>
              <a:rPr b="0" lang="es-ES" sz="24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666800"/>
            <a:ext cx="4427640" cy="36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7d47d"/>
                </a:solidFill>
                <a:latin typeface="Arial Narrow"/>
              </a:rPr>
              <a:t>AUTONOMÍA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125360"/>
            <a:ext cx="3851280" cy="4896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Yo sólo, yo sola”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Conductas de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negativismo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expresiones de que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esta poniendo a prueba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su existencia individu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Combinar con delicadeza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apertura y  paciencia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el respeto por la creciente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autonomía y la necesidad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de aprender normas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para la convivencia social</a:t>
            </a: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211640" y="1052640"/>
            <a:ext cx="319716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7d47d"/>
                </a:solidFill>
                <a:latin typeface="Arial Narrow"/>
              </a:rPr>
              <a:t>INICIATIVA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7740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Apoyar la autonomía, entendiendo los momentos de temor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Curiosidad natural unida a sus crecientes capacidades físicas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lleva a experimentar e investigar el mundo que les rodea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culp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Orientar su curiosidad e iniciativ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Si surgen dificultades, debe quedar claro que el problema n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está en la necesidad de saber y conocer sino en la forma e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que ponemos en práctica  esa necesida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4221000"/>
            <a:ext cx="4896000" cy="199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p:transition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98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98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98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98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7d47d"/>
                </a:solidFill>
                <a:latin typeface="Arial Narrow"/>
              </a:rPr>
              <a:t>COMPETENCIA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47640" y="2747880"/>
            <a:ext cx="4788000" cy="3402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0920" y="1052640"/>
            <a:ext cx="7416720" cy="1655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Demostrarse a sí mismos(as) y a los demás que son capac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Ubicación equilibrada para no interferir con la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responsabilidad que le corresponde  al niño o niña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pero estar presentes</a:t>
            </a:r>
            <a:r>
              <a:rPr b="0" lang="es-ES" sz="24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si éste o ésta les necesita</a:t>
            </a:r>
            <a:r>
              <a:rPr b="0" lang="es-ES" sz="2400" spc="-1" strike="noStrike">
                <a:solidFill>
                  <a:srgbClr val="2f1311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21:51:55Z</dcterms:created>
  <dc:creator>user</dc:creator>
  <dc:description/>
  <dc:language>en-US</dc:language>
  <cp:lastModifiedBy>marlene</cp:lastModifiedBy>
  <dcterms:modified xsi:type="dcterms:W3CDTF">2005-12-05T15:23:32Z</dcterms:modified>
  <cp:revision>5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